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D8C0-7BA0-48B4-8834-4F20062FC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 this matrix:  no differentiation on level of integration (have that now, but not when we were doing surveys – assumption by all = within class, with peers) OR level of assistance/independence (surveyed but not linked to matrix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73A9-1C3F-4E42-A37F-25A4879A0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Year prior and into new school year disruptive incidents at least weekly (for 2 daily).   Decrease from start to end of schoo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91B4-7947-4129-AC77-17D6CC65C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AC49-8D3C-419A-AA27-40581C120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7672-8A2D-416F-A4FF-E0BCCD05B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4B37-21CD-45BA-B53A-CBBC3C2D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080-747F-4834-AEF3-4E73046A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203C-0358-449C-A756-20F09E6F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2B73-A2AC-4D54-B1BA-3FEACD18B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C2E5-6808-4E55-83A7-76C1551E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C13A-C7F4-4A90-BBCC-7EE8CBF9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29C9-6BD4-46AE-B9BF-BCDD3C9C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25B4-E34E-458F-9B1A-808AD3E0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0DED-46EA-420A-ADA7-359FA370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66A4-1DFB-4B89-BC93-711BC381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7233-5D12-497C-BC16-91FCFB1A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EC8F-8DCF-45D1-8743-64240D84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E1C6-C35E-4443-A1F6-13120554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C32D-85D3-41CD-9C77-DC317413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84AB-AF44-4BA2-B9B0-5C8CC65C1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F7744-2E3A-4646-B405-6A9587677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679C7-D0ED-46F0-B675-0EC26A9A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F9B9D-6513-40EF-86D8-6865648B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26FF0-B3BE-4195-B034-F64BAF10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A7AEC-D4CD-4B25-AE5E-EC64E4B5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D73-F703-4223-BC3A-CA79423A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A9419-5375-44BF-B00E-69434D41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D7252-7507-435F-9617-074A8742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73359-4513-4847-807B-A7F0D607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F69A5-6DFF-4A13-ADD0-F34485BF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8E37A-3475-43A3-A19E-75FC0E0B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A6AB-A899-4FFD-91F6-C00DC0B5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9C1AB-E70E-4ADB-97EF-D4D73909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BD0C0-272E-4F98-974E-3DAD99F2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D0F93-7CF3-49C5-934A-E3BA6988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86148-3828-4A7B-8352-F3854496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587-585B-4626-A174-2C7ECCDA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28D32-E020-4EFF-909F-9EF31BF4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1752C-B959-45F3-A6D5-8B45D9C7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F0CA7-8BFB-4A50-A067-4CF1571B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9583C-64EB-4400-A8DE-399B1E08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B338A-15A5-44AD-81B6-CB4F2173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AEF55-1BE9-4C5F-BAFE-97B7565C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AF8D1-67AA-4F61-9C39-8B18DDCD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04DED-6F1E-41B9-A2BC-447A49305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90715-EEBA-4A5E-B4FE-3CC2F8CA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7284-A8B7-4D4E-ACC7-294FCA00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4010-F7EB-45FF-8924-4762731A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5F4C-697F-4DFE-81D3-99D43DF9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C8B-17B9-4A44-9FCD-638073F7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195-BBEA-40E6-9122-8E55DCFA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325B-9C01-4F5E-84B4-97266F3040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44a4"/>
              </a:gs>
              <a:gs pos="50000">
                <a:srgbClr val="3e81e9"/>
              </a:gs>
              <a:gs pos="100000">
                <a:srgbClr val="0044a4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cb2e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6"/>
            <a:stretch/>
          </p:blipFill>
          <p:spPr>
            <a:xfrm>
              <a:off x="-3240" y="4986000"/>
              <a:ext cx="9147240" cy="80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7CCD-A0BF-473A-A1B9-E113AA0747C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99de4"/>
              </a:gs>
              <a:gs pos="100000">
                <a:srgbClr val="0058b0"/>
              </a:gs>
            </a:gsLst>
            <a:lin ang="5400000"/>
          </a:gradFill>
          <a:ln cap="rnd" w="3240">
            <a:solidFill>
              <a:srgbClr val="085091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99de4"/>
              </a:gs>
              <a:gs pos="100000">
                <a:srgbClr val="0058b0"/>
              </a:gs>
            </a:gsLst>
            <a:lin ang="5400000"/>
          </a:gradFill>
          <a:ln cap="rnd" w="3240">
            <a:solidFill>
              <a:srgbClr val="085091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48F5-D6E1-4E50-B5B5-46F88EBF61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60" name="Right Triangle 16" descr=""/>
            <p:cNvPicPr/>
            <p:nvPr/>
          </p:nvPicPr>
          <p:blipFill>
            <a:blip r:embed="rId5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2" name="Straight Connector 18" descr=""/>
          <p:cNvPicPr/>
          <p:nvPr/>
        </p:nvPicPr>
        <p:blipFill>
          <a:blip r:embed="rId6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6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99de4"/>
              </a:gs>
              <a:gs pos="100000">
                <a:srgbClr val="0058b0"/>
              </a:gs>
            </a:gsLst>
            <a:lin ang="5400000"/>
          </a:gradFill>
          <a:ln cap="rnd" w="3240">
            <a:solidFill>
              <a:srgbClr val="085091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99de4"/>
              </a:gs>
              <a:gs pos="100000">
                <a:srgbClr val="0058b0"/>
              </a:gs>
            </a:gsLst>
            <a:lin ang="5400000"/>
          </a:gradFill>
          <a:ln cap="rnd" w="3240">
            <a:solidFill>
              <a:srgbClr val="085091"/>
            </a:solidFill>
            <a:miter/>
          </a:ln>
          <a:effectLst>
            <a:outerShdw dist="2556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574B-5636-4665-B7EC-E74AAEB8B8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7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10.wmf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8.wmf"/><Relationship Id="rId24" Type="http://schemas.openxmlformats.org/officeDocument/2006/relationships/image" Target="../media/image10.wmf"/><Relationship Id="rId25" Type="http://schemas.openxmlformats.org/officeDocument/2006/relationships/image" Target="../media/image8.wmf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8.wmf"/><Relationship Id="rId30" Type="http://schemas.openxmlformats.org/officeDocument/2006/relationships/image" Target="../media/image8.wmf"/><Relationship Id="rId31" Type="http://schemas.openxmlformats.org/officeDocument/2006/relationships/image" Target="../media/image9.wmf"/><Relationship Id="rId32" Type="http://schemas.openxmlformats.org/officeDocument/2006/relationships/image" Target="../media/image9.wmf"/><Relationship Id="rId33" Type="http://schemas.openxmlformats.org/officeDocument/2006/relationships/image" Target="../media/image7.wmf"/><Relationship Id="rId34" Type="http://schemas.openxmlformats.org/officeDocument/2006/relationships/image" Target="../media/image8.wmf"/><Relationship Id="rId35" Type="http://schemas.openxmlformats.org/officeDocument/2006/relationships/image" Target="../media/image8.wmf"/><Relationship Id="rId36" Type="http://schemas.openxmlformats.org/officeDocument/2006/relationships/image" Target="../media/image7.wmf"/><Relationship Id="rId37" Type="http://schemas.openxmlformats.org/officeDocument/2006/relationships/image" Target="../media/image8.wmf"/><Relationship Id="rId38" Type="http://schemas.openxmlformats.org/officeDocument/2006/relationships/image" Target="../media/image8.wmf"/><Relationship Id="rId39" Type="http://schemas.openxmlformats.org/officeDocument/2006/relationships/image" Target="../media/image9.wmf"/><Relationship Id="rId40" Type="http://schemas.openxmlformats.org/officeDocument/2006/relationships/image" Target="../media/image7.wmf"/><Relationship Id="rId41" Type="http://schemas.openxmlformats.org/officeDocument/2006/relationships/image" Target="../media/image8.wmf"/><Relationship Id="rId42" Type="http://schemas.openxmlformats.org/officeDocument/2006/relationships/image" Target="../media/image8.wmf"/><Relationship Id="rId43" Type="http://schemas.openxmlformats.org/officeDocument/2006/relationships/image" Target="../media/image7.wmf"/><Relationship Id="rId44" Type="http://schemas.openxmlformats.org/officeDocument/2006/relationships/image" Target="../media/image8.wmf"/><Relationship Id="rId45" Type="http://schemas.openxmlformats.org/officeDocument/2006/relationships/image" Target="../media/image8.wmf"/><Relationship Id="rId4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2286000" y="1285920"/>
            <a:ext cx="4824360" cy="7207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2 S.I.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10 Sch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9"/>
          <p:cNvSpPr/>
          <p:nvPr/>
        </p:nvSpPr>
        <p:spPr>
          <a:xfrm>
            <a:off x="2857680" y="2500200"/>
            <a:ext cx="792000" cy="792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m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0"/>
          <p:cNvSpPr/>
          <p:nvPr/>
        </p:nvSpPr>
        <p:spPr>
          <a:xfrm>
            <a:off x="4286160" y="2500200"/>
            <a:ext cx="792360" cy="792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no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Oval 21" descr=""/>
          <p:cNvPicPr/>
          <p:nvPr/>
        </p:nvPicPr>
        <p:blipFill>
          <a:blip r:embed="rId2"/>
          <a:stretch/>
        </p:blipFill>
        <p:spPr>
          <a:xfrm>
            <a:off x="3486240" y="4492800"/>
            <a:ext cx="2384280" cy="1304640"/>
          </a:xfrm>
          <a:prstGeom prst="rect">
            <a:avLst/>
          </a:prstGeom>
          <a:ln w="0">
            <a:noFill/>
          </a:ln>
        </p:spPr>
      </p:pic>
      <p:sp>
        <p:nvSpPr>
          <p:cNvPr id="217" name="Oval 20"/>
          <p:cNvSpPr/>
          <p:nvPr/>
        </p:nvSpPr>
        <p:spPr>
          <a:xfrm>
            <a:off x="5572080" y="2500200"/>
            <a:ext cx="792360" cy="792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Straight Arrow Connector 17"/>
          <p:cNvCxnSpPr>
            <a:endCxn id="214" idx="7"/>
          </p:cNvCxnSpPr>
          <p:nvPr/>
        </p:nvCxnSpPr>
        <p:spPr>
          <a:xfrm flipH="1">
            <a:off x="3533760" y="1999080"/>
            <a:ext cx="1114920" cy="617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9" name="Straight Arrow Connector 19"/>
          <p:cNvCxnSpPr>
            <a:stCxn id="213" idx="2"/>
            <a:endCxn id="215" idx="0"/>
          </p:cNvCxnSpPr>
          <p:nvPr/>
        </p:nvCxnSpPr>
        <p:spPr>
          <a:xfrm flipH="1">
            <a:off x="4682520" y="2006640"/>
            <a:ext cx="15840" cy="49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21"/>
          <p:cNvCxnSpPr>
            <a:stCxn id="213" idx="2"/>
            <a:endCxn id="217" idx="1"/>
          </p:cNvCxnSpPr>
          <p:nvPr/>
        </p:nvCxnSpPr>
        <p:spPr>
          <a:xfrm>
            <a:off x="4698000" y="2006640"/>
            <a:ext cx="99036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Down Arrow 26"/>
          <p:cNvSpPr/>
          <p:nvPr/>
        </p:nvSpPr>
        <p:spPr>
          <a:xfrm>
            <a:off x="4429080" y="3643200"/>
            <a:ext cx="484200" cy="571680"/>
          </a:xfrm>
          <a:prstGeom prst="downArrow">
            <a:avLst>
              <a:gd name="adj1" fmla="val 50000"/>
              <a:gd name="adj2" fmla="val 50058"/>
            </a:avLst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"/>
          <p:cNvSpPr/>
          <p:nvPr/>
        </p:nvSpPr>
        <p:spPr>
          <a:xfrm>
            <a:off x="214200" y="339120"/>
            <a:ext cx="871560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., Gr.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vere expressive language disorder (incomprehensible); Severely disruptive behaviour.  Regular classroom plac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t most of day in classroom (76-95% of day) - no change from prior year.  Moved from being engaged some of the time (up to 50%) in 2007-08, to being engaged a lot of the time (up to 80%) in 2008-0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ruptive behaviours were frequent and severe on a weekly basis in 2007-08, and decreased by about 25% in 2008-09 but are still a conce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 increased his level of participation from 2007-08 through 2008-09, from Active to Competitive in math; from Involved to Active in science; and remained Active in language 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needed much less direct assistance to understand instructions in 2008-09 (25% of time), down from up-to-75% of the time in 2007-08.  He continued to need direct assistance to complete tasks about 75% of the time in 2008-09 as in 2007-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7-08 there were frequent opportunities to communicate and he was successful with these about 10% of the time. In 2008-09 there were almost continuous opportunities available to communicate and he was frequently (up to 80% of the time) successful.  For social communication, he made more frequent attempts in 2008-09 compared to in 2007-08, and his need for an adult “interpreter” decreased over the course of the 2008-09 school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ad more successful socializing experiences with peers in 2008-09 but had always enjoyed and attempted to socialize with many peers in years p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ignificant achievement in 2008-09:  "J. 's ability to follow and engage in the grade 2 math program improved markedly this year".  IEP page for math discontinu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S-L Assessment Results: 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sessed Nov. 2008 (Pre) and Oct. 2009 (Post).  </a:t>
            </a: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Significant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mprovements in Sentence Structure (AE 6.0 yrs to AE 8.9 yrs); Formulated Sentences (AE 5.3 yrs to AE 6.2 yrs) as measured by CELF-4.  Overall receptive skills tested at average level (from low average); Overall expressive skills continue to be delayed but gains noted in ability to formulate sentences (i.e.,  Using picture cue, make a sentence using the word longest:  Nov. 2008 “Longest the dog is brown”  to  Oct. 2009 “The middle dog is the longest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"/>
          <p:cNvSpPr/>
          <p:nvPr/>
        </p:nvSpPr>
        <p:spPr>
          <a:xfrm>
            <a:off x="500040" y="1345680"/>
            <a:ext cx="842976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., Gr.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velopmental Disability; Physical Challenges; Severe Expressive Language Difficulties; Quiet – not disruptive.  Self-contained classroom placement for students with Developmental Disabilities and/or Autism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t most of his day in the classroom – no change from prior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d from being engaged some of the time (up to 50%) in 2007-08 to being engaged almost all of the time in 2008-09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d from being on a completely individualized program to working at an Active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ed assistance to understand and complete tasks almost all of the time in 2007-08.  In 2008-09 he needed assistance a lot of the time to understand instructions/tasks (75%) and about 50% of the time to complete tas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7-08: Few interactions with classmates so few opportunities to communicate were present, and when those opportunities were present, attempts were almost always unsuccessful.  He socialized rarely with peers.  In 2008-09 there were frequent communication opportunities present (80-100% of the day) and some of his attempts to communicate were successful (up to 50%).  He socialized with many peers including peers from “regular” classroo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ignificant achievement in 2008-09:  R. wrote a father's day poem using clicker 5 with no assistance and presented it to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-L Assessment Result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"/>
          <p:cNvSpPr/>
          <p:nvPr/>
        </p:nvSpPr>
        <p:spPr>
          <a:xfrm>
            <a:off x="500040" y="571680"/>
            <a:ext cx="82868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., Gr. 3: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ism Spectrum Disorder; Minimally Verbal; Disengaged; Regular Class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t some parts of his day in the classroom in 2007-08 but most of the day in the classroom in 2008-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d from being engaged some of the time (up to 50%) in 2007-08 to being engaged a lot of the time in 2008-09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d from being on an individualized alternative program or working at an Involved level to working at Active or Competitive levels in all subject area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ed assistance to understand and complete tasks all of the time in 2007-08 – very prompt/EA dependent.  In 2008-09 he needed assistance some of the time to understand instructions/tasks (up to 50%) and needed assistance to complete tasks about 75% of th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7-08: C interacted/socialized rarely with classmates so only some opportunities to communicate were present.  When those opportunities were present, attempts were almost always unsuccessful.  In 2008-09 there were frequent communication opportunities present (80-100% of the day) and almost all of his attempts to communicate were successful.  By the end of 2008-09 school year he was socializing regularly with one or two pe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ignificant achievement in 2008-09:  C’s integration and participation in regular classroom activities with peers (he had spent a lot of his prior years in school in alternate activities, alternate locations), and less dependence on one-to-one assistance/prompts. He participated as a member of the class in shared reading and completed math work at level commensurate with pe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-L Assessment Result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571680" y="857160"/>
            <a:ext cx="80722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ata Collection Points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ast term of 2007-2008 school year   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nd of year 2008-2009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Data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urv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peech-Language Assess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EPs and Report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Interviews (teachers and principals; par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928880" y="928800"/>
            <a:ext cx="5572080" cy="1928880"/>
          </a:xfrm>
          <a:prstGeom prst="rect">
            <a:avLst/>
          </a:prstGeom>
          <a:noFill/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928880" y="3143160"/>
            <a:ext cx="5572080" cy="2428920"/>
          </a:xfrm>
          <a:prstGeom prst="rect">
            <a:avLst/>
          </a:prstGeom>
          <a:noFill/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own Arrow 4"/>
          <p:cNvSpPr/>
          <p:nvPr/>
        </p:nvSpPr>
        <p:spPr>
          <a:xfrm>
            <a:off x="4429080" y="2500200"/>
            <a:ext cx="341280" cy="763560"/>
          </a:xfrm>
          <a:prstGeom prst="downArrow">
            <a:avLst>
              <a:gd name="adj1" fmla="val 50000"/>
              <a:gd name="adj2" fmla="val 50040"/>
            </a:avLst>
          </a:prstGeom>
          <a:solidFill>
            <a:srgbClr val="0f6fc6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traight Connector 2"/>
          <p:cNvSpPr/>
          <p:nvPr/>
        </p:nvSpPr>
        <p:spPr>
          <a:xfrm>
            <a:off x="3071880" y="1357200"/>
            <a:ext cx="0" cy="392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4"/>
          <p:cNvSpPr/>
          <p:nvPr/>
        </p:nvSpPr>
        <p:spPr>
          <a:xfrm>
            <a:off x="3071880" y="528624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1288440" y="1714680"/>
            <a:ext cx="17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– Most/All of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7"/>
          <p:cNvSpPr/>
          <p:nvPr/>
        </p:nvSpPr>
        <p:spPr>
          <a:xfrm>
            <a:off x="130320" y="2571840"/>
            <a:ext cx="29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4 – A Lot of Time/Engagement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80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289440" y="3429000"/>
            <a:ext cx="285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 – Some Time/Engagement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50%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318600" y="4286160"/>
            <a:ext cx="279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2 – Very Little Time/Engagement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10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0"/>
          <p:cNvSpPr/>
          <p:nvPr/>
        </p:nvSpPr>
        <p:spPr>
          <a:xfrm>
            <a:off x="1072440" y="507204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 – No Time/Eng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2"/>
          <p:cNvSpPr/>
          <p:nvPr/>
        </p:nvSpPr>
        <p:spPr>
          <a:xfrm>
            <a:off x="3071880" y="442908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13"/>
          <p:cNvSpPr/>
          <p:nvPr/>
        </p:nvSpPr>
        <p:spPr>
          <a:xfrm>
            <a:off x="3071880" y="357192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14"/>
          <p:cNvSpPr/>
          <p:nvPr/>
        </p:nvSpPr>
        <p:spPr>
          <a:xfrm>
            <a:off x="3071880" y="271476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15"/>
          <p:cNvSpPr/>
          <p:nvPr/>
        </p:nvSpPr>
        <p:spPr>
          <a:xfrm>
            <a:off x="3071880" y="185724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>
            <a:off x="3647520" y="54291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% Time 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8"/>
          <p:cNvSpPr/>
          <p:nvPr/>
        </p:nvSpPr>
        <p:spPr>
          <a:xfrm>
            <a:off x="5934600" y="542916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% Time Eng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3929040" y="2357280"/>
            <a:ext cx="571680" cy="292896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0"/>
          <p:cNvSpPr/>
          <p:nvPr/>
        </p:nvSpPr>
        <p:spPr>
          <a:xfrm>
            <a:off x="4500720" y="2000160"/>
            <a:ext cx="571320" cy="328608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6286680" y="3929040"/>
            <a:ext cx="571320" cy="135720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3"/>
          <p:cNvSpPr/>
          <p:nvPr/>
        </p:nvSpPr>
        <p:spPr>
          <a:xfrm>
            <a:off x="6858000" y="2357280"/>
            <a:ext cx="571680" cy="292896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4"/>
          <p:cNvSpPr/>
          <p:nvPr/>
        </p:nvSpPr>
        <p:spPr>
          <a:xfrm>
            <a:off x="6643800" y="1000080"/>
            <a:ext cx="285480" cy="28584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5"/>
          <p:cNvSpPr/>
          <p:nvPr/>
        </p:nvSpPr>
        <p:spPr>
          <a:xfrm>
            <a:off x="6643800" y="1428840"/>
            <a:ext cx="285480" cy="28584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6"/>
          <p:cNvSpPr/>
          <p:nvPr/>
        </p:nvSpPr>
        <p:spPr>
          <a:xfrm>
            <a:off x="6931080" y="100008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e 2007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7"/>
          <p:cNvSpPr/>
          <p:nvPr/>
        </p:nvSpPr>
        <p:spPr>
          <a:xfrm>
            <a:off x="6931800" y="142884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t 2008-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traight Connector 2"/>
          <p:cNvSpPr/>
          <p:nvPr/>
        </p:nvSpPr>
        <p:spPr>
          <a:xfrm>
            <a:off x="3071880" y="1357200"/>
            <a:ext cx="0" cy="392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4"/>
          <p:cNvSpPr/>
          <p:nvPr/>
        </p:nvSpPr>
        <p:spPr>
          <a:xfrm>
            <a:off x="3071880" y="528624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6"/>
          <p:cNvSpPr/>
          <p:nvPr/>
        </p:nvSpPr>
        <p:spPr>
          <a:xfrm>
            <a:off x="1073160" y="1714680"/>
            <a:ext cx="200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– Almost Alway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7"/>
          <p:cNvSpPr/>
          <p:nvPr/>
        </p:nvSpPr>
        <p:spPr>
          <a:xfrm>
            <a:off x="596880" y="2571840"/>
            <a:ext cx="248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4 – A Lot Needed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80% of tim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8"/>
          <p:cNvSpPr/>
          <p:nvPr/>
        </p:nvSpPr>
        <p:spPr>
          <a:xfrm>
            <a:off x="584640" y="3429000"/>
            <a:ext cx="25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 – Some Needed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50% of time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9"/>
          <p:cNvSpPr/>
          <p:nvPr/>
        </p:nvSpPr>
        <p:spPr>
          <a:xfrm>
            <a:off x="1001880" y="4286160"/>
            <a:ext cx="21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2 – Little Needed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10% of tim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0"/>
          <p:cNvSpPr/>
          <p:nvPr/>
        </p:nvSpPr>
        <p:spPr>
          <a:xfrm>
            <a:off x="1004760" y="5072040"/>
            <a:ext cx="19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 – No Assistance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12"/>
          <p:cNvSpPr/>
          <p:nvPr/>
        </p:nvSpPr>
        <p:spPr>
          <a:xfrm>
            <a:off x="3071880" y="442908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13"/>
          <p:cNvSpPr/>
          <p:nvPr/>
        </p:nvSpPr>
        <p:spPr>
          <a:xfrm>
            <a:off x="3071880" y="357192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3071880" y="271476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5"/>
          <p:cNvSpPr/>
          <p:nvPr/>
        </p:nvSpPr>
        <p:spPr>
          <a:xfrm>
            <a:off x="3071880" y="185724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7"/>
          <p:cNvSpPr/>
          <p:nvPr/>
        </p:nvSpPr>
        <p:spPr>
          <a:xfrm>
            <a:off x="2992680" y="5357880"/>
            <a:ext cx="316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mount of Direct Assist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eeded to Intepret/Understand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8"/>
          <p:cNvSpPr/>
          <p:nvPr/>
        </p:nvSpPr>
        <p:spPr>
          <a:xfrm>
            <a:off x="6258960" y="5357880"/>
            <a:ext cx="247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mount of Direct Assist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Needed to Complete Tas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9"/>
          <p:cNvSpPr/>
          <p:nvPr/>
        </p:nvSpPr>
        <p:spPr>
          <a:xfrm>
            <a:off x="3929040" y="2357280"/>
            <a:ext cx="571680" cy="292896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0"/>
          <p:cNvSpPr/>
          <p:nvPr/>
        </p:nvSpPr>
        <p:spPr>
          <a:xfrm>
            <a:off x="4500720" y="3214800"/>
            <a:ext cx="571320" cy="207144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1"/>
          <p:cNvSpPr/>
          <p:nvPr/>
        </p:nvSpPr>
        <p:spPr>
          <a:xfrm>
            <a:off x="6715080" y="2143080"/>
            <a:ext cx="571680" cy="314316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3"/>
          <p:cNvSpPr/>
          <p:nvPr/>
        </p:nvSpPr>
        <p:spPr>
          <a:xfrm>
            <a:off x="7286760" y="3000240"/>
            <a:ext cx="571320" cy="228600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6643800" y="1000080"/>
            <a:ext cx="285480" cy="28584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5"/>
          <p:cNvSpPr/>
          <p:nvPr/>
        </p:nvSpPr>
        <p:spPr>
          <a:xfrm>
            <a:off x="6643800" y="1428840"/>
            <a:ext cx="285480" cy="28584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6"/>
          <p:cNvSpPr/>
          <p:nvPr/>
        </p:nvSpPr>
        <p:spPr>
          <a:xfrm>
            <a:off x="6931080" y="100008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e 2007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7"/>
          <p:cNvSpPr/>
          <p:nvPr/>
        </p:nvSpPr>
        <p:spPr>
          <a:xfrm>
            <a:off x="6931800" y="142884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t 2008-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traight Connector 2"/>
          <p:cNvSpPr/>
          <p:nvPr/>
        </p:nvSpPr>
        <p:spPr>
          <a:xfrm>
            <a:off x="3071880" y="1357200"/>
            <a:ext cx="0" cy="392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4"/>
          <p:cNvSpPr/>
          <p:nvPr/>
        </p:nvSpPr>
        <p:spPr>
          <a:xfrm>
            <a:off x="3071880" y="528624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288440" y="1714680"/>
            <a:ext cx="178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 – Most/All of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743040" y="2571840"/>
            <a:ext cx="234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4 – A Lot of  the Time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80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"/>
          <p:cNvSpPr/>
          <p:nvPr/>
        </p:nvSpPr>
        <p:spPr>
          <a:xfrm>
            <a:off x="731160" y="3429000"/>
            <a:ext cx="241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3 – Some  of the Time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up to 50%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9"/>
          <p:cNvSpPr/>
          <p:nvPr/>
        </p:nvSpPr>
        <p:spPr>
          <a:xfrm>
            <a:off x="803160" y="4286160"/>
            <a:ext cx="23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2 – Very Little of the Time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10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0"/>
          <p:cNvSpPr/>
          <p:nvPr/>
        </p:nvSpPr>
        <p:spPr>
          <a:xfrm>
            <a:off x="1586520" y="5072040"/>
            <a:ext cx="141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1 – All of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2"/>
          <p:cNvSpPr/>
          <p:nvPr/>
        </p:nvSpPr>
        <p:spPr>
          <a:xfrm>
            <a:off x="3071880" y="442908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3"/>
          <p:cNvSpPr/>
          <p:nvPr/>
        </p:nvSpPr>
        <p:spPr>
          <a:xfrm>
            <a:off x="3071880" y="357192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14"/>
          <p:cNvSpPr/>
          <p:nvPr/>
        </p:nvSpPr>
        <p:spPr>
          <a:xfrm>
            <a:off x="3071880" y="271476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5"/>
          <p:cNvSpPr/>
          <p:nvPr/>
        </p:nvSpPr>
        <p:spPr>
          <a:xfrm>
            <a:off x="3071880" y="1857240"/>
            <a:ext cx="550080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7"/>
          <p:cNvSpPr/>
          <p:nvPr/>
        </p:nvSpPr>
        <p:spPr>
          <a:xfrm>
            <a:off x="3430800" y="5429160"/>
            <a:ext cx="212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% Time Commun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Opportunities 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8"/>
          <p:cNvSpPr/>
          <p:nvPr/>
        </p:nvSpPr>
        <p:spPr>
          <a:xfrm>
            <a:off x="5788080" y="5429160"/>
            <a:ext cx="212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% Time Commun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ttempts 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3929040" y="2714760"/>
            <a:ext cx="571680" cy="257148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0"/>
          <p:cNvSpPr/>
          <p:nvPr/>
        </p:nvSpPr>
        <p:spPr>
          <a:xfrm>
            <a:off x="4500720" y="2214720"/>
            <a:ext cx="571320" cy="307152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1"/>
          <p:cNvSpPr/>
          <p:nvPr/>
        </p:nvSpPr>
        <p:spPr>
          <a:xfrm>
            <a:off x="6286680" y="4429080"/>
            <a:ext cx="571320" cy="85716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3"/>
          <p:cNvSpPr/>
          <p:nvPr/>
        </p:nvSpPr>
        <p:spPr>
          <a:xfrm>
            <a:off x="6858000" y="3143160"/>
            <a:ext cx="571680" cy="214308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4"/>
          <p:cNvSpPr/>
          <p:nvPr/>
        </p:nvSpPr>
        <p:spPr>
          <a:xfrm>
            <a:off x="6643800" y="1000080"/>
            <a:ext cx="285480" cy="285840"/>
          </a:xfrm>
          <a:prstGeom prst="rect">
            <a:avLst/>
          </a:prstGeom>
          <a:solidFill>
            <a:srgbClr val="ffc000"/>
          </a:solidFill>
          <a:ln w="55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5"/>
          <p:cNvSpPr/>
          <p:nvPr/>
        </p:nvSpPr>
        <p:spPr>
          <a:xfrm>
            <a:off x="6643800" y="1428840"/>
            <a:ext cx="285480" cy="285840"/>
          </a:xfrm>
          <a:prstGeom prst="rect">
            <a:avLst/>
          </a:prstGeom>
          <a:solidFill>
            <a:srgbClr val="0070c0"/>
          </a:solidFill>
          <a:ln w="55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6"/>
          <p:cNvSpPr/>
          <p:nvPr/>
        </p:nvSpPr>
        <p:spPr>
          <a:xfrm>
            <a:off x="6931080" y="1000080"/>
            <a:ext cx="102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e 2007-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7"/>
          <p:cNvSpPr/>
          <p:nvPr/>
        </p:nvSpPr>
        <p:spPr>
          <a:xfrm>
            <a:off x="6931800" y="142884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st 2008-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571680" y="714240"/>
          <a:ext cx="8215200" cy="5823000"/>
        </p:xfrm>
        <a:graphic>
          <a:graphicData uri="http://schemas.openxmlformats.org/drawingml/2006/table">
            <a:tbl>
              <a:tblPr/>
              <a:tblGrid>
                <a:gridCol w="3571560"/>
                <a:gridCol w="2143440"/>
                <a:gridCol w="2500200"/>
              </a:tblGrid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Language A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  2007-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ost  2008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ne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ternative expectations not on topic or participating with class; may be out of classroom; may be working on other curriculum areas in the classroo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volved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ternative but on topic </a:t>
                      </a: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or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alternative expectations but participating in the activity with class; alternative expectations may include OT, PT, SLP, Behaviour, Social, life skills, daily living skills, etc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ctive: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odified curricul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3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mpetitive: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me expectations as everyone else; may have some accommodations – working with pe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90" name="Isosceles Triangle 6"/>
          <p:cNvSpPr/>
          <p:nvPr/>
        </p:nvSpPr>
        <p:spPr>
          <a:xfrm>
            <a:off x="4929120" y="128592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Isosceles Triangle 7"/>
          <p:cNvSpPr/>
          <p:nvPr/>
        </p:nvSpPr>
        <p:spPr>
          <a:xfrm>
            <a:off x="4929120" y="185724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Isosceles Triangle 8"/>
          <p:cNvSpPr/>
          <p:nvPr/>
        </p:nvSpPr>
        <p:spPr>
          <a:xfrm>
            <a:off x="4572000" y="257184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Isosceles Triangle 9"/>
          <p:cNvSpPr/>
          <p:nvPr/>
        </p:nvSpPr>
        <p:spPr>
          <a:xfrm>
            <a:off x="5214960" y="257184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Isosceles Triangle 10"/>
          <p:cNvSpPr/>
          <p:nvPr/>
        </p:nvSpPr>
        <p:spPr>
          <a:xfrm>
            <a:off x="4572000" y="328608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Isosceles Triangle 11"/>
          <p:cNvSpPr/>
          <p:nvPr/>
        </p:nvSpPr>
        <p:spPr>
          <a:xfrm>
            <a:off x="4929120" y="464328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Isosceles Triangle 12"/>
          <p:cNvSpPr/>
          <p:nvPr/>
        </p:nvSpPr>
        <p:spPr>
          <a:xfrm>
            <a:off x="5286240" y="3286080"/>
            <a:ext cx="381240" cy="357120"/>
          </a:xfrm>
          <a:prstGeom prst="triangle">
            <a:avLst>
              <a:gd name="adj" fmla="val 50000"/>
            </a:avLst>
          </a:prstGeom>
          <a:solidFill>
            <a:srgbClr val="20c9f8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Isosceles Triangle 13"/>
          <p:cNvSpPr/>
          <p:nvPr/>
        </p:nvSpPr>
        <p:spPr>
          <a:xfrm>
            <a:off x="5786280" y="257184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8adfff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16059 0.43171 E">
                                      <p:cBhvr>
                                        <p:cTn id="189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.03331 L 0.21892 0.35014 E">
                                      <p:cBhvr>
                                        <p:cTn id="192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3257 0.24421 E">
                                      <p:cBhvr>
                                        <p:cTn id="195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3184 0.24421 E">
                                      <p:cBhvr>
                                        <p:cTn id="198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41 -0.01829 L 0.20659 0.31504 E">
                                      <p:cBhvr>
                                        <p:cTn id="201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59259E-006 L 0.20035 0.21551 E">
                                      <p:cBhvr>
                                        <p:cTn id="204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27049 0.00348 E">
                                      <p:cBhvr>
                                        <p:cTn id="207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9.3432E-007 L 0.1684 0.01573 E">
                                      <p:cBhvr>
                                        <p:cTn id="210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571680" y="714240"/>
          <a:ext cx="8215200" cy="5823000"/>
        </p:xfrm>
        <a:graphic>
          <a:graphicData uri="http://schemas.openxmlformats.org/drawingml/2006/table">
            <a:tbl>
              <a:tblPr/>
              <a:tblGrid>
                <a:gridCol w="3571560"/>
                <a:gridCol w="2143440"/>
                <a:gridCol w="2500200"/>
              </a:tblGrid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re  2007-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Post  2008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ne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ternative expectations not on topic or participating with class; may be out of classroom; may be working on other curriculum areas in the classroo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7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volved: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lternative but on topic </a:t>
                      </a:r>
                      <a:r>
                        <a:rPr b="0" lang="en-GB" sz="1200" spc="-1" strike="noStrike" u="sng">
                          <a:solidFill>
                            <a:srgbClr val="000000"/>
                          </a:solidFill>
                          <a:uFillTx/>
                          <a:latin typeface="Lucida Sans Unicode"/>
                        </a:rPr>
                        <a:t>or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alternative expectations but participating in the activity with class; alternative expectations may include OT, PT, SLP, Behaviour, Social, life skills, daily living skills, etc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09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ctive: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odified curricul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3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ompetitive: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ame expectations as everyone else; may have some accommodations – working with pe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99" name="Isosceles Triangle 5"/>
          <p:cNvSpPr/>
          <p:nvPr/>
        </p:nvSpPr>
        <p:spPr>
          <a:xfrm>
            <a:off x="4929120" y="128592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Isosceles Triangle 6"/>
          <p:cNvSpPr/>
          <p:nvPr/>
        </p:nvSpPr>
        <p:spPr>
          <a:xfrm>
            <a:off x="4929120" y="185724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Isosceles Triangle 7"/>
          <p:cNvSpPr/>
          <p:nvPr/>
        </p:nvSpPr>
        <p:spPr>
          <a:xfrm>
            <a:off x="4429080" y="250020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Isosceles Triangle 8"/>
          <p:cNvSpPr/>
          <p:nvPr/>
        </p:nvSpPr>
        <p:spPr>
          <a:xfrm>
            <a:off x="4929120" y="535788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Isosceles Triangle 9"/>
          <p:cNvSpPr/>
          <p:nvPr/>
        </p:nvSpPr>
        <p:spPr>
          <a:xfrm>
            <a:off x="5214960" y="31431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0070c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Isosceles Triangle 10"/>
          <p:cNvSpPr/>
          <p:nvPr/>
        </p:nvSpPr>
        <p:spPr>
          <a:xfrm>
            <a:off x="4929120" y="45720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Isosceles Triangle 11"/>
          <p:cNvSpPr/>
          <p:nvPr/>
        </p:nvSpPr>
        <p:spPr>
          <a:xfrm>
            <a:off x="4429080" y="31431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6bdbfa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Isosceles Triangle 12"/>
          <p:cNvSpPr/>
          <p:nvPr/>
        </p:nvSpPr>
        <p:spPr>
          <a:xfrm>
            <a:off x="5214960" y="250020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8adfff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1684 0.43171 E">
                                      <p:cBhvr>
                                        <p:cTn id="216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2 0.0125 L 0.22673 0.35023 E">
                                      <p:cBhvr>
                                        <p:cTn id="219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132 L 0.34392 0.25741 E">
                                      <p:cBhvr>
                                        <p:cTn id="222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33 0.00255 L 0.31388 0.25718 E">
                                      <p:cBhvr>
                                        <p:cTn id="225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6 -0.00717 L 0.23368 0.23773 E">
                                      <p:cBhvr>
                                        <p:cTn id="228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4444E-006 L 0.17638 0.12061 E">
                                      <p:cBhvr>
                                        <p:cTn id="231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0.19966 0.00371 E">
                                      <p:cBhvr>
                                        <p:cTn id="234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3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L 0.25503 0.00602 E">
                                      <p:cBhvr>
                                        <p:cTn id="237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7"/>
          <p:cNvSpPr/>
          <p:nvPr/>
        </p:nvSpPr>
        <p:spPr>
          <a:xfrm>
            <a:off x="7286760" y="2428920"/>
            <a:ext cx="928440" cy="2428920"/>
          </a:xfrm>
          <a:prstGeom prst="rect">
            <a:avLst/>
          </a:prstGeom>
          <a:noFill/>
          <a:ln w="3240">
            <a:solidFill>
              <a:srgbClr val="e4c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4"/>
          <p:cNvSpPr/>
          <p:nvPr/>
        </p:nvSpPr>
        <p:spPr>
          <a:xfrm>
            <a:off x="7220160" y="2714760"/>
            <a:ext cx="10249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90 % de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32"/>
          <p:cNvSpPr/>
          <p:nvPr/>
        </p:nvSpPr>
        <p:spPr>
          <a:xfrm>
            <a:off x="4286160" y="2428920"/>
            <a:ext cx="928800" cy="2428920"/>
          </a:xfrm>
          <a:prstGeom prst="rect">
            <a:avLst/>
          </a:prstGeom>
          <a:noFill/>
          <a:ln w="324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5"/>
          <p:cNvSpPr/>
          <p:nvPr/>
        </p:nvSpPr>
        <p:spPr>
          <a:xfrm>
            <a:off x="5720040" y="2714760"/>
            <a:ext cx="10249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90 % de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33"/>
          <p:cNvSpPr/>
          <p:nvPr/>
        </p:nvSpPr>
        <p:spPr>
          <a:xfrm>
            <a:off x="4219200" y="2714760"/>
            <a:ext cx="10249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75 % de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8"/>
          <p:cNvSpPr/>
          <p:nvPr/>
        </p:nvSpPr>
        <p:spPr>
          <a:xfrm>
            <a:off x="2714760" y="2428920"/>
            <a:ext cx="928440" cy="2428920"/>
          </a:xfrm>
          <a:prstGeom prst="rect">
            <a:avLst/>
          </a:prstGeom>
          <a:noFill/>
          <a:ln w="3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6"/>
          <p:cNvSpPr/>
          <p:nvPr/>
        </p:nvSpPr>
        <p:spPr>
          <a:xfrm>
            <a:off x="1214280" y="2428920"/>
            <a:ext cx="928800" cy="2428920"/>
          </a:xfrm>
          <a:prstGeom prst="rect">
            <a:avLst/>
          </a:prstGeom>
          <a:noFill/>
          <a:ln w="3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29"/>
          <p:cNvSpPr/>
          <p:nvPr/>
        </p:nvSpPr>
        <p:spPr>
          <a:xfrm>
            <a:off x="2647440" y="2714760"/>
            <a:ext cx="10249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50 % de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7"/>
          <p:cNvSpPr/>
          <p:nvPr/>
        </p:nvSpPr>
        <p:spPr>
          <a:xfrm>
            <a:off x="1147320" y="2714760"/>
            <a:ext cx="1024920" cy="24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25 % de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7286760" y="4786200"/>
            <a:ext cx="914400" cy="71640"/>
          </a:xfrm>
          <a:prstGeom prst="rect">
            <a:avLst/>
          </a:prstGeom>
          <a:solidFill>
            <a:srgbClr val="e4c3ba"/>
          </a:solidFill>
          <a:ln w="55080">
            <a:solidFill>
              <a:srgbClr val="e4c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4"/>
          <p:cNvSpPr/>
          <p:nvPr/>
        </p:nvSpPr>
        <p:spPr>
          <a:xfrm>
            <a:off x="5786280" y="4786200"/>
            <a:ext cx="914400" cy="71640"/>
          </a:xfrm>
          <a:prstGeom prst="rect">
            <a:avLst/>
          </a:prstGeom>
          <a:solidFill>
            <a:srgbClr val="a6a6a6"/>
          </a:solidFill>
          <a:ln w="55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4286160" y="4143240"/>
            <a:ext cx="914400" cy="714600"/>
          </a:xfrm>
          <a:prstGeom prst="rect">
            <a:avLst/>
          </a:prstGeom>
          <a:solidFill>
            <a:srgbClr val="04617b"/>
          </a:solidFill>
          <a:ln w="55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3"/>
          <p:cNvSpPr/>
          <p:nvPr/>
        </p:nvSpPr>
        <p:spPr>
          <a:xfrm>
            <a:off x="2714760" y="3571920"/>
            <a:ext cx="914400" cy="1285920"/>
          </a:xfrm>
          <a:prstGeom prst="rect">
            <a:avLst/>
          </a:prstGeom>
          <a:solidFill>
            <a:srgbClr val="55a839"/>
          </a:solidFill>
          <a:ln w="55080">
            <a:solidFill>
              <a:srgbClr val="55a8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6"/>
          <p:cNvSpPr/>
          <p:nvPr/>
        </p:nvSpPr>
        <p:spPr>
          <a:xfrm>
            <a:off x="1214280" y="3143160"/>
            <a:ext cx="914400" cy="1714680"/>
          </a:xfrm>
          <a:prstGeom prst="rect">
            <a:avLst/>
          </a:prstGeom>
          <a:solidFill>
            <a:srgbClr val="7030a0"/>
          </a:solidFill>
          <a:ln w="55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5"/>
          <p:cNvSpPr/>
          <p:nvPr/>
        </p:nvSpPr>
        <p:spPr>
          <a:xfrm>
            <a:off x="1214280" y="2428920"/>
            <a:ext cx="914400" cy="2428920"/>
          </a:xfrm>
          <a:prstGeom prst="rect">
            <a:avLst/>
          </a:prstGeom>
          <a:solidFill>
            <a:srgbClr val="7030a0"/>
          </a:solidFill>
          <a:ln w="55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7286760" y="2428920"/>
            <a:ext cx="914400" cy="2428920"/>
          </a:xfrm>
          <a:prstGeom prst="rect">
            <a:avLst/>
          </a:prstGeom>
          <a:solidFill>
            <a:srgbClr val="e4c3ba"/>
          </a:solidFill>
          <a:ln w="55080">
            <a:solidFill>
              <a:srgbClr val="e4c3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2714760" y="2428920"/>
            <a:ext cx="914400" cy="2428920"/>
          </a:xfrm>
          <a:prstGeom prst="rect">
            <a:avLst/>
          </a:prstGeom>
          <a:solidFill>
            <a:srgbClr val="55a839"/>
          </a:solidFill>
          <a:ln w="55080">
            <a:solidFill>
              <a:srgbClr val="55a8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5786280" y="2428920"/>
            <a:ext cx="914400" cy="2428920"/>
          </a:xfrm>
          <a:prstGeom prst="rect">
            <a:avLst/>
          </a:prstGeom>
          <a:solidFill>
            <a:srgbClr val="a6a6a6"/>
          </a:solidFill>
          <a:ln w="55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4286160" y="2428920"/>
            <a:ext cx="914400" cy="2428920"/>
          </a:xfrm>
          <a:prstGeom prst="rect">
            <a:avLst/>
          </a:prstGeom>
          <a:solidFill>
            <a:srgbClr val="04617b"/>
          </a:solidFill>
          <a:ln w="5508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5"/>
          <p:cNvSpPr/>
          <p:nvPr/>
        </p:nvSpPr>
        <p:spPr>
          <a:xfrm>
            <a:off x="1785960" y="857160"/>
            <a:ext cx="56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isruptive Incidents:  Weekly or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5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6"/>
          <p:cNvSpPr/>
          <p:nvPr/>
        </p:nvSpPr>
        <p:spPr>
          <a:xfrm>
            <a:off x="2441880" y="1571760"/>
            <a:ext cx="44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ecrease Over Course of the School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31"/>
          <p:cNvSpPr/>
          <p:nvPr/>
        </p:nvSpPr>
        <p:spPr>
          <a:xfrm>
            <a:off x="928800" y="4929120"/>
            <a:ext cx="7358040" cy="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6"/>
          <p:cNvSpPr/>
          <p:nvPr/>
        </p:nvSpPr>
        <p:spPr>
          <a:xfrm>
            <a:off x="5786280" y="2428920"/>
            <a:ext cx="928800" cy="2428920"/>
          </a:xfrm>
          <a:prstGeom prst="rect">
            <a:avLst/>
          </a:prstGeom>
          <a:noFill/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1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3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54"/>
          <p:cNvGrpSpPr/>
          <p:nvPr/>
        </p:nvGrpSpPr>
        <p:grpSpPr>
          <a:xfrm>
            <a:off x="6286680" y="1428840"/>
            <a:ext cx="1071000" cy="928080"/>
            <a:chOff x="6286680" y="1428840"/>
            <a:chExt cx="1071000" cy="928080"/>
          </a:xfrm>
        </p:grpSpPr>
        <p:pic>
          <p:nvPicPr>
            <p:cNvPr id="331" name="Picture 55" descr="MCj04238600000[1]"/>
            <p:cNvPicPr/>
            <p:nvPr/>
          </p:nvPicPr>
          <p:blipFill>
            <a:blip r:embed="rId2"/>
            <a:stretch/>
          </p:blipFill>
          <p:spPr>
            <a:xfrm>
              <a:off x="6286680" y="1494720"/>
              <a:ext cx="77256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56" descr="MCj04231690000[1]"/>
            <p:cNvPicPr/>
            <p:nvPr/>
          </p:nvPicPr>
          <p:blipFill>
            <a:blip r:embed="rId3"/>
            <a:stretch/>
          </p:blipFill>
          <p:spPr>
            <a:xfrm flipH="1">
              <a:off x="7009920" y="1694160"/>
              <a:ext cx="34776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57" descr="MCj04231690000[1]"/>
            <p:cNvPicPr/>
            <p:nvPr/>
          </p:nvPicPr>
          <p:blipFill>
            <a:blip r:embed="rId4"/>
            <a:stretch/>
          </p:blipFill>
          <p:spPr>
            <a:xfrm flipH="1">
              <a:off x="6878160" y="1428840"/>
              <a:ext cx="347760" cy="35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4" name="Picture 81" descr="MCj04244800000[1]"/>
          <p:cNvPicPr/>
          <p:nvPr/>
        </p:nvPicPr>
        <p:blipFill>
          <a:blip r:embed="rId5"/>
          <a:stretch/>
        </p:blipFill>
        <p:spPr>
          <a:xfrm>
            <a:off x="1571760" y="2214720"/>
            <a:ext cx="757080" cy="7984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0" descr="MCj04244800000[1]"/>
          <p:cNvPicPr/>
          <p:nvPr/>
        </p:nvPicPr>
        <p:blipFill>
          <a:blip r:embed="rId6"/>
          <a:stretch/>
        </p:blipFill>
        <p:spPr>
          <a:xfrm>
            <a:off x="2714760" y="1000080"/>
            <a:ext cx="785520" cy="84636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62"/>
          <p:cNvGrpSpPr/>
          <p:nvPr/>
        </p:nvGrpSpPr>
        <p:grpSpPr>
          <a:xfrm>
            <a:off x="6286680" y="1071720"/>
            <a:ext cx="1532520" cy="1388880"/>
            <a:chOff x="6286680" y="1071720"/>
            <a:chExt cx="1532520" cy="1388880"/>
          </a:xfrm>
        </p:grpSpPr>
        <p:pic>
          <p:nvPicPr>
            <p:cNvPr id="337" name="Picture 23" descr="MCj04244660000[1]"/>
            <p:cNvPicPr/>
            <p:nvPr/>
          </p:nvPicPr>
          <p:blipFill>
            <a:blip r:embed="rId7"/>
            <a:stretch/>
          </p:blipFill>
          <p:spPr>
            <a:xfrm>
              <a:off x="6286680" y="1503360"/>
              <a:ext cx="100764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28" descr="MCj04231690000[1]"/>
            <p:cNvPicPr/>
            <p:nvPr/>
          </p:nvPicPr>
          <p:blipFill>
            <a:blip r:embed="rId8"/>
            <a:stretch/>
          </p:blipFill>
          <p:spPr>
            <a:xfrm flipH="1">
              <a:off x="6862320" y="1287360"/>
              <a:ext cx="38052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29" descr="MCj04231690000[1]"/>
            <p:cNvPicPr/>
            <p:nvPr/>
          </p:nvPicPr>
          <p:blipFill>
            <a:blip r:embed="rId9"/>
            <a:stretch/>
          </p:blipFill>
          <p:spPr>
            <a:xfrm flipH="1">
              <a:off x="7222680" y="1719360"/>
              <a:ext cx="38052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30" descr="MCj04231690000[1]"/>
            <p:cNvPicPr/>
            <p:nvPr/>
          </p:nvPicPr>
          <p:blipFill>
            <a:blip r:embed="rId10"/>
            <a:stretch/>
          </p:blipFill>
          <p:spPr>
            <a:xfrm flipH="1">
              <a:off x="7151400" y="143208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31" descr="MCj04231690000[1]"/>
            <p:cNvPicPr/>
            <p:nvPr/>
          </p:nvPicPr>
          <p:blipFill>
            <a:blip r:embed="rId11"/>
            <a:stretch/>
          </p:blipFill>
          <p:spPr>
            <a:xfrm flipH="1">
              <a:off x="7151400" y="107172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32" descr="MCj04231690000[1]"/>
            <p:cNvPicPr/>
            <p:nvPr/>
          </p:nvPicPr>
          <p:blipFill>
            <a:blip r:embed="rId12"/>
            <a:stretch/>
          </p:blipFill>
          <p:spPr>
            <a:xfrm flipH="1">
              <a:off x="7294320" y="207972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33" descr="MCj04231690000[1]"/>
            <p:cNvPicPr/>
            <p:nvPr/>
          </p:nvPicPr>
          <p:blipFill>
            <a:blip r:embed="rId13"/>
            <a:stretch/>
          </p:blipFill>
          <p:spPr>
            <a:xfrm flipH="1">
              <a:off x="7438680" y="1503360"/>
              <a:ext cx="380520" cy="38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Group 46"/>
          <p:cNvGrpSpPr/>
          <p:nvPr/>
        </p:nvGrpSpPr>
        <p:grpSpPr>
          <a:xfrm>
            <a:off x="7072200" y="3357720"/>
            <a:ext cx="1078920" cy="865080"/>
            <a:chOff x="7072200" y="3357720"/>
            <a:chExt cx="1078920" cy="865080"/>
          </a:xfrm>
        </p:grpSpPr>
        <p:pic>
          <p:nvPicPr>
            <p:cNvPr id="345" name="Picture 47" descr="MCj04238600000[1]"/>
            <p:cNvPicPr/>
            <p:nvPr/>
          </p:nvPicPr>
          <p:blipFill>
            <a:blip r:embed="rId14"/>
            <a:stretch/>
          </p:blipFill>
          <p:spPr>
            <a:xfrm>
              <a:off x="7072200" y="3419280"/>
              <a:ext cx="77868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48" descr="MCj04231690000[1]"/>
            <p:cNvPicPr/>
            <p:nvPr/>
          </p:nvPicPr>
          <p:blipFill>
            <a:blip r:embed="rId15"/>
            <a:stretch/>
          </p:blipFill>
          <p:spPr>
            <a:xfrm flipH="1">
              <a:off x="7800840" y="3604680"/>
              <a:ext cx="3502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49" descr="MCj04231690000[1]"/>
            <p:cNvPicPr/>
            <p:nvPr/>
          </p:nvPicPr>
          <p:blipFill>
            <a:blip r:embed="rId16"/>
            <a:stretch/>
          </p:blipFill>
          <p:spPr>
            <a:xfrm flipH="1">
              <a:off x="7668000" y="3357720"/>
              <a:ext cx="350280" cy="327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Group 63"/>
          <p:cNvGrpSpPr/>
          <p:nvPr/>
        </p:nvGrpSpPr>
        <p:grpSpPr>
          <a:xfrm>
            <a:off x="1571760" y="1714680"/>
            <a:ext cx="1532520" cy="1428120"/>
            <a:chOff x="1571760" y="1714680"/>
            <a:chExt cx="1532520" cy="1428120"/>
          </a:xfrm>
        </p:grpSpPr>
        <p:pic>
          <p:nvPicPr>
            <p:cNvPr id="349" name="Picture 64" descr="MCj04244660000[1]"/>
            <p:cNvPicPr/>
            <p:nvPr/>
          </p:nvPicPr>
          <p:blipFill>
            <a:blip r:embed="rId17"/>
            <a:stretch/>
          </p:blipFill>
          <p:spPr>
            <a:xfrm>
              <a:off x="1571760" y="2158560"/>
              <a:ext cx="1007640" cy="89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65" descr="MCj04231690000[1]"/>
            <p:cNvPicPr/>
            <p:nvPr/>
          </p:nvPicPr>
          <p:blipFill>
            <a:blip r:embed="rId18"/>
            <a:stretch/>
          </p:blipFill>
          <p:spPr>
            <a:xfrm flipH="1">
              <a:off x="2147400" y="1936440"/>
              <a:ext cx="380520" cy="39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66" descr="MCj04231690000[1]"/>
            <p:cNvPicPr/>
            <p:nvPr/>
          </p:nvPicPr>
          <p:blipFill>
            <a:blip r:embed="rId19"/>
            <a:stretch/>
          </p:blipFill>
          <p:spPr>
            <a:xfrm flipH="1">
              <a:off x="2507760" y="2380680"/>
              <a:ext cx="38052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67" descr="MCj04231690000[1]"/>
            <p:cNvPicPr/>
            <p:nvPr/>
          </p:nvPicPr>
          <p:blipFill>
            <a:blip r:embed="rId20"/>
            <a:stretch/>
          </p:blipFill>
          <p:spPr>
            <a:xfrm flipH="1">
              <a:off x="2436480" y="2085120"/>
              <a:ext cx="38088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68" descr="MCj04231690000[1]"/>
            <p:cNvPicPr/>
            <p:nvPr/>
          </p:nvPicPr>
          <p:blipFill>
            <a:blip r:embed="rId21"/>
            <a:stretch/>
          </p:blipFill>
          <p:spPr>
            <a:xfrm flipH="1">
              <a:off x="2436480" y="1714680"/>
              <a:ext cx="38088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69" descr="MCj04231690000[1]"/>
            <p:cNvPicPr/>
            <p:nvPr/>
          </p:nvPicPr>
          <p:blipFill>
            <a:blip r:embed="rId22"/>
            <a:stretch/>
          </p:blipFill>
          <p:spPr>
            <a:xfrm flipH="1">
              <a:off x="2579400" y="2751120"/>
              <a:ext cx="380880" cy="39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70" descr="MCj04231690000[1]"/>
            <p:cNvPicPr/>
            <p:nvPr/>
          </p:nvPicPr>
          <p:blipFill>
            <a:blip r:embed="rId23"/>
            <a:stretch/>
          </p:blipFill>
          <p:spPr>
            <a:xfrm flipH="1">
              <a:off x="2723760" y="2158560"/>
              <a:ext cx="380520" cy="39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6" name="Group 71"/>
          <p:cNvGrpSpPr/>
          <p:nvPr/>
        </p:nvGrpSpPr>
        <p:grpSpPr>
          <a:xfrm>
            <a:off x="2714760" y="571680"/>
            <a:ext cx="1532520" cy="1388880"/>
            <a:chOff x="2714760" y="571680"/>
            <a:chExt cx="1532520" cy="1388880"/>
          </a:xfrm>
        </p:grpSpPr>
        <p:pic>
          <p:nvPicPr>
            <p:cNvPr id="357" name="Picture 72" descr="MCj04244660000[1]"/>
            <p:cNvPicPr/>
            <p:nvPr/>
          </p:nvPicPr>
          <p:blipFill>
            <a:blip r:embed="rId24"/>
            <a:stretch/>
          </p:blipFill>
          <p:spPr>
            <a:xfrm>
              <a:off x="2714760" y="1003320"/>
              <a:ext cx="1007640" cy="8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73" descr="MCj04231690000[1]"/>
            <p:cNvPicPr/>
            <p:nvPr/>
          </p:nvPicPr>
          <p:blipFill>
            <a:blip r:embed="rId25"/>
            <a:stretch/>
          </p:blipFill>
          <p:spPr>
            <a:xfrm flipH="1">
              <a:off x="3290400" y="787320"/>
              <a:ext cx="38052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74" descr="MCj04231690000[1]"/>
            <p:cNvPicPr/>
            <p:nvPr/>
          </p:nvPicPr>
          <p:blipFill>
            <a:blip r:embed="rId26"/>
            <a:stretch/>
          </p:blipFill>
          <p:spPr>
            <a:xfrm flipH="1">
              <a:off x="3650760" y="1219320"/>
              <a:ext cx="38052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75" descr="MCj04231690000[1]"/>
            <p:cNvPicPr/>
            <p:nvPr/>
          </p:nvPicPr>
          <p:blipFill>
            <a:blip r:embed="rId27"/>
            <a:stretch/>
          </p:blipFill>
          <p:spPr>
            <a:xfrm flipH="1">
              <a:off x="3579480" y="93204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76" descr="MCj04231690000[1]"/>
            <p:cNvPicPr/>
            <p:nvPr/>
          </p:nvPicPr>
          <p:blipFill>
            <a:blip r:embed="rId28"/>
            <a:stretch/>
          </p:blipFill>
          <p:spPr>
            <a:xfrm flipH="1">
              <a:off x="3579480" y="57168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77" descr="MCj04231690000[1]"/>
            <p:cNvPicPr/>
            <p:nvPr/>
          </p:nvPicPr>
          <p:blipFill>
            <a:blip r:embed="rId29"/>
            <a:stretch/>
          </p:blipFill>
          <p:spPr>
            <a:xfrm flipH="1">
              <a:off x="3722400" y="157968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78" descr="MCj04231690000[1]"/>
            <p:cNvPicPr/>
            <p:nvPr/>
          </p:nvPicPr>
          <p:blipFill>
            <a:blip r:embed="rId30"/>
            <a:stretch/>
          </p:blipFill>
          <p:spPr>
            <a:xfrm flipH="1">
              <a:off x="3866760" y="1003320"/>
              <a:ext cx="380520" cy="38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4" name="Picture 79" descr="MCj04244800000[1]"/>
          <p:cNvPicPr/>
          <p:nvPr/>
        </p:nvPicPr>
        <p:blipFill>
          <a:blip r:embed="rId31"/>
          <a:stretch/>
        </p:blipFill>
        <p:spPr>
          <a:xfrm>
            <a:off x="2071800" y="4857840"/>
            <a:ext cx="817560" cy="8604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80" descr="MCj04244800000[1]"/>
          <p:cNvPicPr/>
          <p:nvPr/>
        </p:nvPicPr>
        <p:blipFill>
          <a:blip r:embed="rId32"/>
          <a:stretch/>
        </p:blipFill>
        <p:spPr>
          <a:xfrm rot="474600">
            <a:off x="2768760" y="3551400"/>
            <a:ext cx="798480" cy="84924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85"/>
          <p:cNvSpPr/>
          <p:nvPr/>
        </p:nvSpPr>
        <p:spPr>
          <a:xfrm>
            <a:off x="6215040" y="55720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007-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Isosceles Triangle 50"/>
          <p:cNvSpPr/>
          <p:nvPr/>
        </p:nvSpPr>
        <p:spPr>
          <a:xfrm rot="577200">
            <a:off x="6456240" y="1254240"/>
            <a:ext cx="509760" cy="3744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Isosceles Triangle 52"/>
          <p:cNvSpPr/>
          <p:nvPr/>
        </p:nvSpPr>
        <p:spPr>
          <a:xfrm rot="20714400">
            <a:off x="2754360" y="771120"/>
            <a:ext cx="503280" cy="37944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Isosceles Triangle 53"/>
          <p:cNvSpPr/>
          <p:nvPr/>
        </p:nvSpPr>
        <p:spPr>
          <a:xfrm rot="20734800">
            <a:off x="1607760" y="1914120"/>
            <a:ext cx="500040" cy="3571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Isosceles Triangle 55"/>
          <p:cNvSpPr/>
          <p:nvPr/>
        </p:nvSpPr>
        <p:spPr>
          <a:xfrm rot="20602800">
            <a:off x="7041960" y="3206520"/>
            <a:ext cx="500040" cy="35712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60"/>
          <p:cNvSpPr/>
          <p:nvPr/>
        </p:nvSpPr>
        <p:spPr>
          <a:xfrm>
            <a:off x="6224040" y="5572080"/>
            <a:ext cx="148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008-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61"/>
          <p:cNvSpPr/>
          <p:nvPr/>
        </p:nvSpPr>
        <p:spPr>
          <a:xfrm>
            <a:off x="5021280" y="5000760"/>
            <a:ext cx="39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ocializing with P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46"/>
          <p:cNvGrpSpPr/>
          <p:nvPr/>
        </p:nvGrpSpPr>
        <p:grpSpPr>
          <a:xfrm>
            <a:off x="5500800" y="3357720"/>
            <a:ext cx="1078560" cy="865080"/>
            <a:chOff x="5500800" y="3357720"/>
            <a:chExt cx="1078560" cy="865080"/>
          </a:xfrm>
        </p:grpSpPr>
        <p:pic>
          <p:nvPicPr>
            <p:cNvPr id="374" name="Picture 47" descr="MCj04238600000[1]"/>
            <p:cNvPicPr/>
            <p:nvPr/>
          </p:nvPicPr>
          <p:blipFill>
            <a:blip r:embed="rId33"/>
            <a:stretch/>
          </p:blipFill>
          <p:spPr>
            <a:xfrm>
              <a:off x="5500800" y="3419280"/>
              <a:ext cx="778320" cy="80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48" descr="MCj04231690000[1]"/>
            <p:cNvPicPr/>
            <p:nvPr/>
          </p:nvPicPr>
          <p:blipFill>
            <a:blip r:embed="rId34"/>
            <a:stretch/>
          </p:blipFill>
          <p:spPr>
            <a:xfrm flipH="1">
              <a:off x="6229080" y="3604680"/>
              <a:ext cx="3502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49" descr="MCj04231690000[1]"/>
            <p:cNvPicPr/>
            <p:nvPr/>
          </p:nvPicPr>
          <p:blipFill>
            <a:blip r:embed="rId35"/>
            <a:stretch/>
          </p:blipFill>
          <p:spPr>
            <a:xfrm flipH="1">
              <a:off x="6096240" y="3357720"/>
              <a:ext cx="350280" cy="32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7" name="Isosceles Triangle 62"/>
          <p:cNvSpPr/>
          <p:nvPr/>
        </p:nvSpPr>
        <p:spPr>
          <a:xfrm rot="20851800">
            <a:off x="5541480" y="3206880"/>
            <a:ext cx="500040" cy="357120"/>
          </a:xfrm>
          <a:prstGeom prst="triangle">
            <a:avLst>
              <a:gd name="adj" fmla="val 50000"/>
            </a:avLst>
          </a:prstGeom>
          <a:solidFill>
            <a:srgbClr val="8adfff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50"/>
          <p:cNvGrpSpPr/>
          <p:nvPr/>
        </p:nvGrpSpPr>
        <p:grpSpPr>
          <a:xfrm>
            <a:off x="2714760" y="3357720"/>
            <a:ext cx="1172880" cy="1005840"/>
            <a:chOff x="2714760" y="3357720"/>
            <a:chExt cx="1172880" cy="1005840"/>
          </a:xfrm>
        </p:grpSpPr>
        <p:pic>
          <p:nvPicPr>
            <p:cNvPr id="379" name="Picture 51" descr="MCj04238600000[1]"/>
            <p:cNvPicPr/>
            <p:nvPr/>
          </p:nvPicPr>
          <p:blipFill>
            <a:blip r:embed="rId36"/>
            <a:stretch/>
          </p:blipFill>
          <p:spPr>
            <a:xfrm>
              <a:off x="2714760" y="3429000"/>
              <a:ext cx="846000" cy="93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52" descr="MCj04231690000[1]"/>
            <p:cNvPicPr/>
            <p:nvPr/>
          </p:nvPicPr>
          <p:blipFill>
            <a:blip r:embed="rId37"/>
            <a:stretch/>
          </p:blipFill>
          <p:spPr>
            <a:xfrm flipH="1">
              <a:off x="3506760" y="3645000"/>
              <a:ext cx="38088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53" descr="MCj04231690000[1]"/>
            <p:cNvPicPr/>
            <p:nvPr/>
          </p:nvPicPr>
          <p:blipFill>
            <a:blip r:embed="rId38"/>
            <a:stretch/>
          </p:blipFill>
          <p:spPr>
            <a:xfrm flipH="1">
              <a:off x="3362400" y="3357720"/>
              <a:ext cx="380880" cy="38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2" name="Picture 79" descr="MCj04244800000[1]"/>
          <p:cNvPicPr/>
          <p:nvPr/>
        </p:nvPicPr>
        <p:blipFill>
          <a:blip r:embed="rId39"/>
          <a:stretch/>
        </p:blipFill>
        <p:spPr>
          <a:xfrm>
            <a:off x="1000080" y="3786120"/>
            <a:ext cx="817560" cy="860400"/>
          </a:xfrm>
          <a:prstGeom prst="rect">
            <a:avLst/>
          </a:prstGeom>
          <a:ln w="0">
            <a:noFill/>
          </a:ln>
        </p:spPr>
      </p:pic>
      <p:sp>
        <p:nvSpPr>
          <p:cNvPr id="383" name="Isosceles Triangle 54"/>
          <p:cNvSpPr/>
          <p:nvPr/>
        </p:nvSpPr>
        <p:spPr>
          <a:xfrm rot="850800">
            <a:off x="3035160" y="3262320"/>
            <a:ext cx="430200" cy="33336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58"/>
          <p:cNvGrpSpPr/>
          <p:nvPr/>
        </p:nvGrpSpPr>
        <p:grpSpPr>
          <a:xfrm>
            <a:off x="1000080" y="3643200"/>
            <a:ext cx="1172880" cy="1006560"/>
            <a:chOff x="1000080" y="3643200"/>
            <a:chExt cx="1172880" cy="1006560"/>
          </a:xfrm>
        </p:grpSpPr>
        <p:pic>
          <p:nvPicPr>
            <p:cNvPr id="385" name="Picture 59" descr="MCj04238600000[1]"/>
            <p:cNvPicPr/>
            <p:nvPr/>
          </p:nvPicPr>
          <p:blipFill>
            <a:blip r:embed="rId40"/>
            <a:stretch/>
          </p:blipFill>
          <p:spPr>
            <a:xfrm>
              <a:off x="1000080" y="3714840"/>
              <a:ext cx="84600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60" descr="MCj04231690000[1]"/>
            <p:cNvPicPr/>
            <p:nvPr/>
          </p:nvPicPr>
          <p:blipFill>
            <a:blip r:embed="rId41"/>
            <a:stretch/>
          </p:blipFill>
          <p:spPr>
            <a:xfrm flipH="1">
              <a:off x="1792080" y="393084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61" descr="MCj04231690000[1]"/>
            <p:cNvPicPr/>
            <p:nvPr/>
          </p:nvPicPr>
          <p:blipFill>
            <a:blip r:embed="rId42"/>
            <a:stretch/>
          </p:blipFill>
          <p:spPr>
            <a:xfrm flipH="1">
              <a:off x="1647720" y="3643200"/>
              <a:ext cx="380880" cy="38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8" name="Isosceles Triangle 68"/>
          <p:cNvSpPr/>
          <p:nvPr/>
        </p:nvSpPr>
        <p:spPr>
          <a:xfrm rot="20676600">
            <a:off x="1036800" y="3490920"/>
            <a:ext cx="509400" cy="345960"/>
          </a:xfrm>
          <a:prstGeom prst="triangle">
            <a:avLst>
              <a:gd name="adj" fmla="val 50000"/>
            </a:avLst>
          </a:prstGeom>
          <a:solidFill>
            <a:srgbClr val="6bdbfa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50"/>
          <p:cNvGrpSpPr/>
          <p:nvPr/>
        </p:nvGrpSpPr>
        <p:grpSpPr>
          <a:xfrm>
            <a:off x="2071800" y="4714920"/>
            <a:ext cx="1172880" cy="1006560"/>
            <a:chOff x="2071800" y="4714920"/>
            <a:chExt cx="1172880" cy="1006560"/>
          </a:xfrm>
        </p:grpSpPr>
        <p:pic>
          <p:nvPicPr>
            <p:cNvPr id="390" name="Picture 51" descr="MCj04238600000[1]"/>
            <p:cNvPicPr/>
            <p:nvPr/>
          </p:nvPicPr>
          <p:blipFill>
            <a:blip r:embed="rId43"/>
            <a:stretch/>
          </p:blipFill>
          <p:spPr>
            <a:xfrm>
              <a:off x="2071800" y="4786560"/>
              <a:ext cx="84600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52" descr="MCj04231690000[1]"/>
            <p:cNvPicPr/>
            <p:nvPr/>
          </p:nvPicPr>
          <p:blipFill>
            <a:blip r:embed="rId44"/>
            <a:stretch/>
          </p:blipFill>
          <p:spPr>
            <a:xfrm flipH="1">
              <a:off x="2863800" y="500256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53" descr="MCj04231690000[1]"/>
            <p:cNvPicPr/>
            <p:nvPr/>
          </p:nvPicPr>
          <p:blipFill>
            <a:blip r:embed="rId45"/>
            <a:stretch/>
          </p:blipFill>
          <p:spPr>
            <a:xfrm flipH="1">
              <a:off x="2719440" y="4714920"/>
              <a:ext cx="380880" cy="38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3" name="Isosceles Triangle 51"/>
          <p:cNvSpPr/>
          <p:nvPr/>
        </p:nvSpPr>
        <p:spPr>
          <a:xfrm rot="1071600">
            <a:off x="2343240" y="4570200"/>
            <a:ext cx="511200" cy="3603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55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3:57:07Z</dcterms:created>
  <dc:creator> UCDSB</dc:creator>
  <dc:description/>
  <dc:language>en-US</dc:language>
  <cp:lastModifiedBy>Alexandra Dunn</cp:lastModifiedBy>
  <dcterms:modified xsi:type="dcterms:W3CDTF">2010-06-12T03:21:12Z</dcterms:modified>
  <cp:revision>84</cp:revision>
  <dc:subject/>
  <dc:title>Slide 1</dc:title>
</cp:coreProperties>
</file>